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860-C31E-4A3F-83D3-879D8E7A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D02-30B4-4825-89A3-023AB1D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2A09-6EA0-4EA5-BB7C-92A1B352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2150-A75C-47C3-AF01-B69CD3C0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AE4B-FBBC-4FE9-B09C-73728B3A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993C-DFD1-4C51-87F1-A57441FB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D81-5475-4C1B-89BF-203F1A10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B5DFA-4D91-485F-9DC6-E09156ED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160-99D1-4D8A-8FD5-31542EA3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C28D-BCAD-4BDB-B168-118F228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7839-CEA5-4428-9FBB-B580385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BE9E-25E7-453F-93BA-60F9D3D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4E5F-0F36-42FE-90EE-4C694249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ED78-D0F5-4D56-8FBC-1EF8DCCB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8E31-0693-47C6-9B8C-7F5DC68E1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4AD8-56E9-48B7-BBE0-978C8824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3930-E26F-4869-BD5B-082E6992E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B92B-2EE6-4574-96B8-CE79D281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AB94-DC2B-45AC-A8CA-2D275403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74D66-4F2F-4E4B-B0F3-7F2A0547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918A-C5FC-4604-AC1B-B178CEE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23179-6E67-4F02-8355-BE061B5E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CC3-3D6A-42E2-9969-ACAA1770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E8158-AF63-4BF8-8C78-695ECA10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7F03-A7B7-4BFC-8386-6B3CBF8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9FDB1-24DF-4458-AD02-287BB32F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4EF3-0F6D-405F-90A7-3F5D86E0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7FEE8-0C20-494A-A1B9-7A8C2A2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0B64-5F9F-4FC8-8A3E-342E7E1C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89973-FF33-4E39-9C2D-32DBFD6A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DB332-6E00-4E5A-9DA4-9C5B10AA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0F16C-3251-4D2F-B68B-DB9E5AB2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47FBC-6D4D-42EC-9A1F-79AF3892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A5B-DB4B-4189-AED1-7C535BFA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BA6C6-C4A0-400A-B84F-9A558FB8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C7B1B-C4D0-4DEF-A1FC-78BB0262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7B807-3994-4C76-B169-01566B2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F301-0F3A-4D71-963C-2B8ED0C7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004EF-7436-4D4B-943C-F3D7D3A3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DE654-87B3-49F4-A59A-888F8AF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1C6DD-C7FA-4880-B36D-98098ED9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B2A1E-BAFC-4C5F-8D72-E12D3295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D26A5-3127-490B-9AE3-D0731D41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891C9-CA02-424C-BDEA-2C747C02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F8CE-38ED-42E9-AE17-36B65823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A16E4-15EB-4A38-BE3C-11C2CDC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951FD-C4E1-46C4-BA26-501B81DC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8718-BCB7-40F8-98EA-3C6506D6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F8F6F-3E86-489F-95DA-00B4ACE6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71DC-8660-4D8A-B33F-C6A64C43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D35C-2A38-4D3E-AFFC-F6FEBF90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C2291-CACC-4635-A1D4-EAB7A4E3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94B18-F91F-4ECA-B3D0-D353B22D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DAF4-C714-43E7-8674-ABAD6F0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2AD59-A5D2-4847-8691-8BA208A0C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BD8-3170-4B2C-83FF-6F06E012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47C8D-1FE3-4F12-A7FB-D976521E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FD87D-C937-4394-817A-681107C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55515-DF53-43DF-BAF9-7642261B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DD2ED-BE7B-4552-879C-0060766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60F81-034C-401D-8E19-F2D869E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96FF5-1B89-496E-B8EA-E0F407CB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7CF72-C3E0-473D-9126-5904DAAC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4CC8-0750-44F1-8FD7-F6F8D3A4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CF8A3-7B77-418A-9598-284E5CFC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F678A-94E6-4BEE-A857-498E3214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A4C-6599-4CCB-826B-7835E6D7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0575A-FA66-4C7A-8425-D386D704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B772F-E220-45CD-B051-7626978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3EA2-633E-4D7C-A3FD-8EFBE7A82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BCA47-BF08-4C1B-97BC-376F0CDB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802F5-8D07-4DB9-A549-3CB5ACA7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EE623-19DA-41C9-98DB-9CD89F6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DD2E7-0007-4AD1-B9CB-C9503F5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52188-C911-4DA4-BC22-38A39840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9A6D1-51F8-4FC2-A297-7FE480BC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E3F19-D222-4B37-9446-AD6E4ADB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393E-58E4-455A-AC51-F05FC026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AA096-6B1D-42A5-9210-67AFE0D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66D14-71B8-4166-A48B-3AB6A3BA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E4338-DBE8-4A4E-8675-2CC6B8FA3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E921D-8C50-408E-9471-AE8E684F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0BF9-F457-4D64-9C05-58E2F7CF1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B6B4-B620-41B0-9A53-D235297B9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72F21-134B-4876-9F62-CD66A5E1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A82CB-0064-43C1-854E-0D5BE80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EAAF-22E2-49AF-856D-56FD5B58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49AF9-45B9-44C3-BBBC-A7869FD4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5C9-5051-44AF-A239-FEBD0A5C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A5FBE-3EF5-4A84-82B6-5A911C9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34AD-888E-415D-BDBA-5A64CA3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A2BE9-0F4B-445C-BAC8-905311BD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7516-9938-4CDB-BBC6-87964711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9D3E6-9950-43DB-881E-3DF0D5A8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7FC1-2B94-4717-85FB-411FAAAE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10C96-850B-4239-A358-324ADB88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17B4-BC1B-4820-B98E-B8ABC680729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605A-8B13-48FF-BA21-6FCB3C7A7037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16D-09A8-4D19-9DBE-A62C0EEA85DC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FFF-929B-4DEF-9A9D-B646C9AE7E56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69E8-E7EA-4BF9-A4B5-1C6AE7DBFDAF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B210-19C7-4061-B76C-E67F9AC933B5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ecf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6ecff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6ecf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FB20-4A48-4167-9357-3D412DC49366}" type="slidenum">
              <a:rPr b="0" lang="en-US" sz="1400" spc="-1" strike="noStrike">
                <a:solidFill>
                  <a:srgbClr val="d6ecf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a15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a157a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e116b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a157a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5b6f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631F-19C3-4725-A26E-DE2C3DAA94F6}" type="slidenum">
              <a:rPr b="0" lang="en-US" sz="1400" spc="-1" strike="noStrike">
                <a:solidFill>
                  <a:srgbClr val="4e5b6f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733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POWER GRID CONTROL SYSTEM USING GSM MODEM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Block Diagram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Power supply</a:t>
            </a:r>
            <a:endParaRPr b="0" lang="en-US" sz="3600" spc="-1" strike="noStrike">
              <a:solidFill>
                <a:srgbClr val="4e5b6f"/>
              </a:solidFill>
              <a:latin typeface="Bookman Old Style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Advantages:</a:t>
            </a:r>
            <a:br>
              <a:rPr sz="4000"/>
            </a:b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ystem can be monitored and controlled from any wher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Mobile number can be changed at any tim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rid status will not be lost in power failure condition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533520" y="914040"/>
            <a:ext cx="815328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copes for Advancement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system is developed for mobile reporting application only. It also can be interfaced to computer system to record and process data bas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pplications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Gill Sans MT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rocess Industries, Power Grid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4e5b6f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ence by this project we can control power grid using wireless communication system i.e., Global system for mobile communications modem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533160" y="990360"/>
            <a:ext cx="79246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owadays there are various electronic equipment available for remote operation of grid control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However, the main disadvantage of these systems is that they can be operated only from short ranges and also less reliabl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990360"/>
            <a:ext cx="81532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o overcome the above drawbacks, we are using one of the wireless communication technique i.e., GSM (Global System for Mobile communications)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is a digital cellular communications system which has rapidly gained acceptance and market share worldwid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533520" y="5331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development of GSM is the first step towards a true personal communication system that will allow us to communication anywhere, anytime and with anyone. 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GSM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 is vastly used because of its simplicity in both transmitter and receiver design, can operate at 900 or 1800MHZ band, faster , more reliable and globally network 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352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is designed for seven power grid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8051 Microcontroller is the heart of the projec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 GSM modem is interfaced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modem receives the messages from control mobile and sends as input to microcontroll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0880" y="685800"/>
            <a:ext cx="830592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e microcontroller verify for authentication of the number and, if the number is authorized, grid control will be taken place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And EEPROM is interfaced to this controller to save the grid position at every instant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59200" indent="-25920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grid position information will not be deleted even in power failure conditions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33520" y="83772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X4 keypad is interfaced to change the mobile number at any time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6X2 LCD is interfaced to display user-required inform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In this project TRAIC is used as load controller (as a switch), MOC3021 used as a Triac driver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0880" y="9140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GSM network operators have roaming facilities, user can often continue to use there mobile phones when they travel to other countries etc…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his project uses regulated 5v, 750mA power supply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456840" y="914040"/>
            <a:ext cx="80010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7805 and 7812 three terminal voltage regulators are used for voltage regulation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ridge type full wave rectifier is used to rectify the ac output of secondary of 230/12v step down transformer.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05:49:06Z</dcterms:created>
  <dc:creator/>
  <dc:description>Electrical Projects</dc:description>
  <dc:language>en-US</dc:language>
  <cp:lastModifiedBy>mahesh</cp:lastModifiedBy>
  <dcterms:modified xsi:type="dcterms:W3CDTF">2008-12-29T09:15:19Z</dcterms:modified>
  <cp:revision>0</cp:revision>
  <dc:subject>Electrical Projects</dc:subject>
  <dc:title>EEE IEEE Projects</dc:title>
</cp:coreProperties>
</file>